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64B-B6D0-4B24-B2A0-6D9D930C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DFD-8DD6-4FE7-8252-4E67FAD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043-1ACB-4387-B73C-8051C33D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AF6-1CC1-4FE1-AD73-377948AC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3A51-07B1-45BC-BCC8-763C17E4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8660-9596-442C-BA38-C734CD6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4A9-6851-4AF6-80F4-7F563A4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A9E6-4993-4EAB-93FE-36926E4F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1636-ECF2-49AF-A812-956810B9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A05D-7C15-4598-A846-CEFBEDB2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489B-0D09-4434-A765-91F4A88E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FFF-BAF8-4194-BE64-2991931A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68B3-AFF0-4091-92E2-58255AB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FB4F-9B01-4D8F-B00B-3EE99EFA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979D-7700-4235-846E-BCD69EBD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4D34-0BDB-42FD-8A39-E1C94C07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E3DA-3F39-4413-9385-1F46ED17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C3B-4409-44B1-9BA0-245CF1D9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513-E9CE-4D73-A173-A53A619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2F4-C602-4CBE-8087-8C5027BD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15F-76D0-4860-AB9E-EA809260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EC8-AF59-4AAA-A938-3500F9B7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C66-EE49-4848-B6FA-8B86BEE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B8D2-4E57-47AE-9614-9F0B974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Page </a:t>
            </a:r>
            <a:fld id="{72DF7788-8608-4F7E-8F04-74D138E9AD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3320" cy="548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Page </a:t>
            </a:r>
            <a:fld id="{9A3A38C0-6751-46A9-929B-A000D94294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formance Testing of CORBA Services using Tree and Tabular Combined Nota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lexey Mednonogov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sinki University of Technolog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communications Software and Multimedia Laboratory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ch 2000, Espoo FINLA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exey.Mednonogov@lut.f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ORBA/TTCN Gateway: Overview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cts as an intermediary between Test System and SU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The gateway itself is a CORBA-based Java application (ORBacus from OOC Inc. + OpenTTCN from OES Oy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Distributed and interpreted nature of the test environment speeds up design of Abstract Test Suite (ATS), as well as facilitates testing in multi-party context (concurrent TTCN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latively low performance of Java language is not of crucial importance, as performance measurements in conformance testing are not usually involve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ORBA/TTCN Gateway: Architecture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4190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ilder, Visitor &amp; Adap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sign patterns are us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sit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ntrospects ASP coming from the test environ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ild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structs ASP either from server response or from client operation cal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dapt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erforms a technical conversion of information from IFR into internal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ynchronous mod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f DII is used, what allows design of concurrent test suites or even simultaneous execution of several test suites served by one gateway compon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679560" cy="472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Testing Gateway Functionality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Two groups of test cases, 9 test cases in each grou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ne group for  testing CORBA servers, another   one for testing CORBA clien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 minimum set of tests of gateway sta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9601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est Session Exampl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6095880" cy="4648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943600" y="1600200"/>
            <a:ext cx="304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wo typical stages of testing CORBA serv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gistering a CORBA object (pCREG_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suing (or accepting) actual opera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OR used for binding a PCO with CORBA server is supplied to ATS in form of PIXIT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TCN framework facilitates practical testing of active service components (servers), as it provides formal and standardized means for reusable &amp; automated testing of telecom system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et, TTCN does not show up enough flexibility in emulating a full-scale functionality of a typical CORBA servant, making TTCN-oriented processing of requests coming from reactive components (clients) look relatively awkwar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f SUT mostly contains active parts (which is normally the case in testing CORBA services), then TTCN framework   shall undoubtedly be preferre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pplications and Techniqu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mmon Object Request Broker Architectur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iddleware architecture for transparent communication in heterogeneous environment (platform, language, location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operable, robust, high-performance solution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amless interconnection of multi-vendor service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nformance testing of CORBA using TTC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TCN is a mature standardized framework for reusable and automated testing of telecommunication system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ey success factor for ensuring reliability of distributed Internet-based CORBA services and application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Object Management Architecture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265428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74880" y="1716120"/>
            <a:ext cx="48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CORBA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is the communications heart of OMA Reference Mod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ORB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is a low-level subsystem responsible for transparent communication of objec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CORBAservice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define system interfaces complementing the basic functionality of ORB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CORBAfacilities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provide standard frameworks for defining universal rules of engagement for CORBA-based collaborating objec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5240" y="5410080"/>
            <a:ext cx="24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bject Management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CORBA Middleware Architecture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73356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41907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face Definition Languag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DL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cts as a primary contract between servers and clients, abstracting from the details of implementation, location in the network and the platform us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client can introspect content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IFR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find out which requests can be processed by a specific server and what data types are use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erver advertises its presence to clients by i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operable Object Reference (IOR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876920"/>
            <a:ext cx="33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G Common Ob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ker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Conformance Testing Architecture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5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Times New Roman"/>
              </a:rPr>
              <a:t>CORBA Services Testing Methodology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pplication-level CORBA clients and servers are being tested using remote test method in a single-party testing context (SPyT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Low-level ORB protocols (GIOP/IIOP) and all other ORB components are assumed to be functioning properly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ORBA/TTCN gateway exploits DII, DSI &amp; IFR to convert TTCN ASP to dynamic request / response and vice versa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As SUT cannot distinguish whether static or dynamic invocation scheme has been used, the implementation details of test environment are completely transparent from SUT perspectiv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IDL/TTCN Mapping: Overview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5562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L-to-TTCN Mapping Rules in a Nutsh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61048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943600" y="18288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lated work of GMD FOKUS &amp; JIDM (NMF and X/Open) shall be acknowledged (basic concepts for mapping IDL operations, type definitions etc. to TTCN language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IDL/TTCN Mapping: Details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it stuffing” concept is used for mapping IDL compound identifiers to a single TTCN identifier (symbolic chain “_i” acts as a separator and all “_” characters are duplicated, e.g.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IDL “ModA_::_ModB::IntC”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TTCN “PCO1_iModA___i__ModB_iIntC”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CALL_ID field is introduced into every Exception, Call &amp; Reply ASP to uniquely identify operation call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Several forms of Registration ASP are defined for binding a specific TTCN PCO with CORBA client or server objec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Our mapping allows catching group of exceptions defined within one IDL module/interface in one TTCN constrain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IDL/TTCN Mapping: Data Types</a:t>
            </a:r>
            <a:endParaRPr b="0" i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472428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most cases, IDL data types are naturally mapped to ASN.1 types without complic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76276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76920" y="472428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ping for IDL “union” shall include information about exact value of discrim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bcbcb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7200" y="5638680"/>
            <a:ext cx="51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DL “any” type is a real challen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76520"/>
            <a:ext cx="81532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Mednonogov / Helsinki University of Technology / Conformance Testing of CORBA Services Using TTC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.3.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3:34Z</dcterms:created>
  <dc:creator>TITE</dc:creator>
  <dc:description/>
  <dc:language>en-US</dc:language>
  <cp:lastModifiedBy>Everybody</cp:lastModifiedBy>
  <cp:lastPrinted>2000-03-06T17:59:35Z</cp:lastPrinted>
  <dcterms:modified xsi:type="dcterms:W3CDTF">2000-03-06T18:16:17Z</dcterms:modified>
  <cp:revision>58</cp:revision>
  <dc:subject/>
  <dc:title>Reporting Status or Progress</dc:title>
</cp:coreProperties>
</file>