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782-9056-49FF-8299-05A56A6E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8F8-5ED7-4813-9996-B688A5D8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F50-05E8-4916-896D-4561DFCE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85F-D079-4A9B-8648-E9A923BC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DD70-4CF3-49CB-ADA4-9D6F02BE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096-B685-465E-97FE-F158F5A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2C26-C308-4FC4-9836-41C3F522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EF1-749A-4179-8FDC-7CA23AD3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1C68-5B67-4ABD-88A4-E11B963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1D6D-F197-4D48-900C-36F82B29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030-545B-4E76-AC9D-1B0BED89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F16-839B-4F34-A5C8-8D63714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F9C8-F702-4778-9563-9963514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1D0A-866D-4FD5-AB0A-B83A6A1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0D9B-0D3B-418E-AD4D-EAD1CB8B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196A-800D-4008-978A-3AC78B0C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17B7-84DC-4B9D-87F8-8D25F82F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526-AF49-4398-818C-351412A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9E5-FCA8-4805-8CE7-A5FB9E5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237-4777-4F45-BAD3-1B3EFF9A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AE3-4F9F-44E4-9A5C-178DE026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F84-F0F4-4DFB-89BF-A1BB2A4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8FB-30F2-4A0C-A57B-2BFADB8A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567-602C-4553-A1F2-D0BE736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Page </a:t>
            </a:r>
            <a:fld id="{52A6E709-60CC-4743-9673-511DE8D22B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Page </a:t>
            </a:r>
            <a:fld id="{C45FA584-4120-4A44-B783-C7B3048446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ormance Testing of CORBA Services using Tree and Tabular Combined Nota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exey Mednonogov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sinki University of Technolog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communications Software and Multimedia Laborato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ch 2000, Espoo FINL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exey.Mednonogov@lut.f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ORBA/TTCN Gateway: Overview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ts as an intermediary between Test System and SU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 gateway itself is a CORBA-based Java application (ORBacus from OOC Inc. + OpenTTCN from OES Oy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istributed and interpreted nature of the test environment speeds up design of Abstract Test Suite (ATS), as well as facilitates testing in multi-party context (concurrent TTCN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latively low performance of Java language is not of crucial importance, as performance measurements in conformance testing are not usually involve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ORBA/TTCN Gateway: Architect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4190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ilder, Visitor &amp; Adap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sign patterns are us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t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trospects ASP coming from the test environ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ild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structs ASP either from server response or from client operation cal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ap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forms a technical conversion of information from IFR into internal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ynchronous mod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f DII is used, what allows design of concurrent test suites or even simultaneous execution of several test suites served by one gateway compon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6795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Testing Gateway Functionality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Two groups of test cases, 9 test cases in each 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ne group for  testing CORBA servers, another   one for testing CORBA cli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 minimum set of tests of gateway sta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9601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est Session Examp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943600" y="160020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wo typical stages of testing CORBA serv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istering a CORBA object (pCREG_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suing (or accepting) actual opera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OR used for binding a PCO with CORBA server is supplied to ATS in form of PIXIT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TCN framework facilitates practical testing of active service components (servers), as it provides formal and standardized means for reusable &amp; automated testing of telecom system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t, TTCN does not show up enough flexibility in emulating a full-scale functionality of a typical CORBA servant, making TTCN-oriented processing of requests coming from reactive components (clients) look relatively awkwa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f SUT mostly contains active parts (which is normally the case in testing CORBA services), then TTCN framework   shall undoubtedly be preferre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pplications and Techniqu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mmon Object Request Broker Architectur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ddleware architecture for transparent communication in heterogeneous environment (platform, language, location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operable, robust, high-performance solution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amless interconnection of multi-vendor servic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nformance testing of CORBA using TTC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TCN is a mature standardized framework for reusable and automated testing of telecommunication system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ey success factor for ensuring reliability of distributed Internet-based CORBA services and application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Object Management Architecture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6542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4880" y="171612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CORBA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is the communications heart of OMA Reference Mod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is a low-level subsystem responsible for transparent communication of objec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CORBAservice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define system interfaces complementing the basic functionality of ORB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CORBAfacilitie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provide standard frameworks for defining universal rules of engagement for CORBA-based collaborating objec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5240" y="5410080"/>
            <a:ext cx="24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bject Managemen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CORBA Middleware Architecture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73356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4190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 Definition Languag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DL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cts as a primary contract between servers and clients, abstracting from the details of implementation, location in the network and the platform us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client can introspect content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FR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find out which requests can be processed by a specific server and what data types are us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erver advertises its presence to clients by 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operable Object Reference (IOR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7692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G Common Ob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k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Conformance Testing Architecture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5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ORBA Services Testing Methodology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pplication-level CORBA clients and servers are being tested using remote test method in a single-party testing context (SPyT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Low-level ORB protocols (GIOP/IIOP) and all other ORB components are assumed to be functioning properl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ORBA/TTCN gateway exploits DII, DSI &amp; IFR to convert TTCN ASP to dynamic request / response and vice versa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s SUT cannot distinguish whether static or dynamic invocation scheme has been used, the implementation details of test environment are completely transparent from SUT perspectiv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IDL/TTCN Mapping: Overview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562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-to-TTCN Mapping Rules in a Nutsh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4360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ated work of GMD FOKUS &amp; JIDM (NMF and X/Open) shall be acknowledged (basic concepts for mapping IDL operations, type definitions etc. to TTCN language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IDL/TTCN Mapping: Details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it stuffing” concept is used for mapping IDL compound identifiers to a single TTCN identifier (symbolic chain “_i” acts as a separator and all “_” characters are duplicated, e.g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DL “ModA_::_ModB::IntC”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TTCN “PCO1_iModA___i__ModB_iIntC”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ALL_ID field is introduced into every Exception, Call &amp; Reply ASP to uniquely identify operation call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everal forms of Registration ASP are defined for binding a specific TTCN PCO with CORBA client or server objec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ur mapping allows catching group of exceptions defined within one IDL module/interface in one TTCN constrain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IDL/TTCN Mapping: Data Types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most cases, IDL data types are naturally mapped to ASN.1 types without complic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76276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76920" y="472428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ping for IDL “union” shall include information about exact value of discri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bcbcb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7200" y="563868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L “any” type is a real challe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76520"/>
            <a:ext cx="8153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TITE</dc:creator>
  <dc:description/>
  <dc:language>en-US</dc:language>
  <cp:lastModifiedBy>Everybody</cp:lastModifiedBy>
  <cp:lastPrinted>2000-03-06T17:59:35Z</cp:lastPrinted>
  <dcterms:modified xsi:type="dcterms:W3CDTF">2000-03-06T18:16:17Z</dcterms:modified>
  <cp:revision>58</cp:revision>
  <dc:subject/>
  <dc:title>Reporting Status or Progress</dc:title>
</cp:coreProperties>
</file>